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BB3-6CF5-4D21-B13E-306BEB45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470-F45B-41F9-96A7-19B6B4E5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085-6E7D-4BA3-AE23-C4BF167B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416-D89A-42C8-A8F2-585D4E07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1F6-5634-448F-B120-272D7958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6C3-3450-4694-A32A-976E0F0C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F4B-2986-47B2-A061-5A9B2AE6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E8E-5CCF-4231-B100-244C8B86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582-34AB-41CE-9472-55A31E1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849-501F-459D-AA6C-935B46F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770-BF2D-4E3B-ABB5-7FEAB48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FE0-4949-4ECD-981D-81D71D52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B67-720A-47BF-9864-A098B8160D1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1 Tak, ako dávno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dnes 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, ako dávno, aj dnes z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Božej lásky pozva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ochotne naň odpovi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ť nový život s Kristom sm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š z hriechu pút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yman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vojho Tvorcu osláviť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r Kristovi dnes život svo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obre bojuj viery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čuje vrúcnej prosby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pomôže ti práve v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všetkom, čo ťa trápi, v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koj svoj ti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ď na neho vždy s dôver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jlepšou je opor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 ním bezpečná je žitia pú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smieme večne spočinú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0:29:05Z</dcterms:modified>
  <cp:revision>24</cp:revision>
  <dc:subject/>
  <dc:title>Je veľký náš Pán, on slávy je Kráľ Nech do všetkých strán  spev vrúcnych znie chvál.</dc:title>
</cp:coreProperties>
</file>